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F18E-183B-480D-BF35-574914020BC1}"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5971-E76B-4E5C-954D-77DBC347D19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8DE5-1F5F-401A-AE81-E90A92A3CEB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4546-2FA1-4B00-B345-4489B40F661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3568-CE79-4C20-A092-B8E40163833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F57E-C5C5-49DA-B844-46896F32756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2F21-DA95-444B-BBD1-562B157130E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92A5-240C-4E35-912A-0F3A2D9C514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3893-5032-4593-9FBB-6F26CC347DD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AA2C-B613-402C-82BC-790FF328919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51D4-3DC6-4BCA-BF08-33525AEB440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4948-1F8B-42AE-B93E-C2622673241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79BD-D605-4F5A-AB0E-7E17E0F7F3E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2BCB-1115-441B-8C98-855659D86A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1AE2-BBA9-4E1B-961B-A169739972D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DAB1-F2AC-416D-A90A-E26FB27085F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ECAC-4197-452A-BF1B-36DAB2EC074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9503-767C-402C-9E07-6E859B77A77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C80C-7EB3-496E-8E97-5E31A7EEBFC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64A0-6186-474E-B983-CA94C5E4813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0288-211B-4BA6-8A2B-838922D606F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BD4A-3C2E-44C7-9969-5CB7FDD68B2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DBC6-0C92-49F9-A8C4-E1D354C2937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B128-727E-48BE-8AFF-67A76130FB3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1496-B3E2-4B69-BC63-D78DA89ED3E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0078-A17E-4ADA-A85B-2F6899055CA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1017-F443-4E1C-98AF-2BC353D68A7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9EA2-8645-46DD-9C9E-4B29863E270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718D-BAA4-4D65-9A1F-E4807CC6AC8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537F-6115-45DC-9F06-5E45B52891C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9D18-D27C-43F1-82CB-DA7EDBF2E12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E8D7D2-2A9A-40F5-87BF-BF10CDA65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EA9759-BE1D-466F-B7A9-B5604F82D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3ECF18-21AF-46D2-B1E9-05A7AAF291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B0C91D-2382-4785-9769-6244879B84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B04D0-102B-4A98-9E40-850A2DCD4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C4B60-10C7-4ABC-9152-2655EB227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D0949-FE6D-4754-AE8D-4036B2AFF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89BA5-2DB4-49C7-99AC-315C5AC07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34D31-585B-4C53-A994-4BE20639C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7A880-9480-4FC0-8423-7E252A455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B086A-7ED0-4E1E-9386-855290782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E88FDC-1583-4ED1-8B55-A85EEE07D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F920B-40A6-407B-9B27-2B9C24811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C21BD-9177-4462-96A7-25D5A1E97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8FF0F-3A05-4607-9086-31AF3F89C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44295-037C-47C0-AE15-139EC8DF5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B29F1-09D5-4628-B5A9-71BA6DFB8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C64097-F4BC-45BB-8BBF-2FC20B7BA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6B2640-A178-4423-B2B4-D107C2F58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2992C7-7853-4078-B44C-8C1736225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BF2E94-ECE1-4ABB-9C50-4B3EAFF2D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518C45-E5AE-4E23-9D82-272502FA6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A75EA8-8728-4DB6-B505-950334610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802B69-89A3-43C8-9233-CFDB967B69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66FC-119B-4152-996B-3DE39A330C3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9C30-3511-4DD1-B012-452D09419C8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611280" y="1904760"/>
            <a:ext cx="8075520" cy="4190760"/>
          </a:xfrm>
          <a:prstGeom prst="rect">
            <a:avLst/>
          </a:prstGeom>
          <a:noFill/>
          <a:ln w="0">
            <a:noFill/>
          </a:ln>
        </p:spPr>
        <p:txBody>
          <a:bodyPr anchor="t">
            <a:normAutofit/>
          </a:bodyPr>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procenat izmjene cijene usled ispunjenih uslova za izmjenu cijene (iznad graničnih procenata+1/2 iznosa izad tih procenata)</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se cijene pojedinih materijala, odnosno usluga promijene za </a:t>
            </a:r>
            <a:r>
              <a:rPr b="0" lang="en-GB" sz="1300" spc="-1" strike="noStrike">
                <a:solidFill>
                  <a:srgbClr val="ffffff"/>
                </a:solidFill>
                <a:latin typeface="Arial"/>
              </a:rPr>
              <a:t>&gt;</a:t>
            </a:r>
            <a:r>
              <a:rPr b="0" lang="sr-Latn-CS" sz="1300" spc="-1" strike="noStrike">
                <a:solidFill>
                  <a:srgbClr val="ffffff"/>
                </a:solidFill>
                <a:latin typeface="Arial"/>
              </a:rPr>
              <a:t> od 5%,</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svih materijala i usluga iznosi  više  od </a:t>
            </a:r>
            <a:r>
              <a:rPr b="0" lang="en-GB" sz="1300" spc="-1" strike="noStrike">
                <a:solidFill>
                  <a:srgbClr val="ffffff"/>
                </a:solidFill>
                <a:latin typeface="Arial"/>
              </a:rPr>
              <a:t>&gt;</a:t>
            </a:r>
            <a:r>
              <a:rPr b="0" lang="sr-Latn-CS" sz="1300" spc="-1" strike="noStrike">
                <a:solidFill>
                  <a:srgbClr val="ffffff"/>
                </a:solidFill>
                <a:latin typeface="Arial"/>
              </a:rPr>
              <a:t> od 3%,</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materijala i usluga mijenja ugovorenu vrijednost radova za </a:t>
            </a:r>
            <a:r>
              <a:rPr b="0" lang="en-GB" sz="1300" spc="-1" strike="noStrike">
                <a:solidFill>
                  <a:srgbClr val="ffffff"/>
                </a:solidFill>
                <a:latin typeface="Arial"/>
              </a:rPr>
              <a:t>&gt;</a:t>
            </a:r>
            <a:r>
              <a:rPr b="0" lang="sr-Latn-CS" sz="1300" spc="-1" strike="noStrike">
                <a:solidFill>
                  <a:srgbClr val="ffffff"/>
                </a:solidFill>
                <a:latin typeface="Arial"/>
              </a:rPr>
              <a:t> od 2%, </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lauzule o nepromjenjivosti cijena (dozvoljena promjena iznad graničnog procenta od 10%)</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valiteta na ugovorenu cijenu (za losiji kvalitet srazmjerno smanjenje cijene, a za bolji povećanje samo ako je prethodno naručilac to odobrio)</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odredba “Ključ u ruke” (cijenom obuhvaćeni viškovi i manjkovi radova i nepredviđeni radovi, ali se ima pravoo na izmjenu cijene usled promjene okolnosti)</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cijena naknadnih radova (uvijek se naknadno ugovara, bez obzira na oblik ugovora)</a:t>
            </a:r>
            <a:endParaRPr b="0" lang="en-US" sz="1300" spc="-1" strike="noStrike">
              <a:solidFill>
                <a:srgbClr val="ffffff"/>
              </a:solidFill>
              <a:latin typeface="Arial"/>
            </a:endParaRPr>
          </a:p>
          <a:p>
            <a:pPr lvl="1" marL="93348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9:16Z</dcterms:modified>
  <cp:revision>383</cp:revision>
  <dc:subject/>
  <dc:title>ZAKON O IZGRADNJI OBJEKATA</dc:title>
</cp:coreProperties>
</file>